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FFF-841B-40CF-BB35-1DE5C0BC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E36-7EC3-4DD0-9D1B-3D8BF152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594-D0B1-4CF4-954C-2CF75C22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D22-DF73-444B-925E-56372F98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971-00E9-4E28-A606-069C4E18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9A6-A540-4741-A5C7-ACC9278F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C3B-2275-4224-A7C3-23EB0C50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831-9F49-41D1-AE72-D5F5C21C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EB4-A72E-4BE3-8809-48F43324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28F-6F3A-46C1-8415-7AE1744F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A5B-5E4F-4919-A433-12451A34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003-517B-41B5-92A8-A57E481A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5335-BC28-49DA-A1E3-5B77E98B1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B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We will use 3 x 150,000 L fermen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Volume usage is 61% of BF ( range of 60-70%) = 91, 5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gae [ 27 g/L ] x 91, 500 L / x  1KG/1000 g =  2470 kg of Algae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ipids- of the Algae produced 25% would be lipids  [ 6.75 g/L ] = 617.5 kg of 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lgae bodies 1852.5 Kg of algae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27:57Z</dcterms:created>
  <dc:creator>xplabpc</dc:creator>
  <dc:description/>
  <dc:language>en-US</dc:language>
  <cp:lastModifiedBy>xplabpc</cp:lastModifiedBy>
  <dcterms:modified xsi:type="dcterms:W3CDTF">2010-02-05T23:09:59Z</dcterms:modified>
  <cp:revision>2</cp:revision>
  <dc:subject/>
  <dc:title>Yields</dc:title>
</cp:coreProperties>
</file>